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026E-B82C-425A-950F-41920DEB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6CE-818A-4895-BD59-A786FA36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D88D5-6FCF-4AE4-AB44-6567E118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FFB0D-B70F-46EF-8C15-E5748005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67286-7ED7-4822-B0FB-D37BB63E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953E4-E941-4A25-9F12-98901A1E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1E669-9718-4554-AB7C-8CE6F942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E15A0-674E-40F8-9CC5-E0F53F0E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C6FF2-0A48-4DEB-AD6E-4CC9DCA7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E998C-492A-4FE8-965D-E1C609D1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ADF1A-BDD2-47A4-9920-93AE5D8E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95C87-5B81-4EA3-A07B-DB47A12C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70D-475A-4589-B079-C046CAF4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15027-F575-4DF1-A6A0-7726A98D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F9838-A75A-44EA-84C7-AC212CE0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CADB9-B85C-448B-AEE4-B8AABF6F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86F76-838E-414F-A4B2-33214F42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0963B-C38F-4853-9EA9-4693847E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08B6D-0FAE-49AA-9D71-55DA7650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EE509-504C-4198-A321-E7EC2C80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29C09-02CF-4A41-9BB7-A4B9C9E9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1743D-2F88-4568-84C6-510D4F2D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3DA05-FAC7-4447-B3C6-4227185F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361-EDA0-4201-B66A-0EB0D08F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86A1E-4EB7-4970-9FCA-1CDC14A8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743D3-F621-4E83-A010-4C471211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D24C0-C8E2-4E25-83BD-30D63F1D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D8C4B-B1BA-47A0-BC31-023FFA10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087A5-E3A6-4B9F-B4A9-BDE4DC18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33DF3-1B7F-4410-9319-FFDF71B5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F6AE6-907E-4522-9F9A-4B76B58B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8F2DD-F97C-4944-BA68-13AD3F75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A5065-5E2C-470E-9CFD-7B75C2A6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0EFC8-125A-4D3B-9B87-E19226C3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8EE1-A386-432F-A601-A5C737BC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71EA9-D419-44CD-BEA0-E2319187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DED48-A3BF-441D-826A-0BD4BDA9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2A1D4-0DC7-4F0B-A174-F87B2906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B6876-8887-431B-B52C-9D81113B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96364-32A2-487C-B366-C1E95EE4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A75F9-9E13-4D05-8653-4C90948E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F3062-F8F1-406D-9296-CEE1C4F1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DB8D1-2F45-4DAD-B273-E7C8B831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53B5B-9DEB-4A44-A976-CF5ED099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16B98-7B39-4B29-B146-22F3134B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2E78-4564-40D3-8358-1E345F34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7820F-4FF6-451A-A836-398B81B9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96340-583B-4422-A936-105CF829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4118F-08A9-491B-8E46-79BD1533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4F516-9513-4635-AB95-A1572B2F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4A123-0EBA-4340-836A-F858B3AA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36AFA-F81D-4DB3-A455-C6F8A987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DE168-1AA5-40CA-8E30-8BDC3B72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A3969-B049-49DF-B35F-A1C97312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68255-13FD-4232-9C41-E63E470F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AA943-D24B-4912-BFE4-A8D4093A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8872-3A32-480D-9A4E-D9FF7133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7E1CD-B905-44D1-908D-5D9959FD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AC861-574A-48B0-8F01-12AA9782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55E22-77E6-48FB-B2E3-690F19E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29546-5C78-4E83-8102-3B81D8D8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BCE29-9D04-45B5-B089-68982D87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C7DED-EF5A-4BDA-8822-E1867E4C7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8C286-EC6A-4C3F-9073-062DE6CC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98968-7B96-472D-B080-54C9171F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1F99CC-E7B6-4C46-814A-311B4A97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12C4E3-9C52-4A84-B13E-9F278F96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CC81-6F71-4F2F-BD7B-1F501C82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F77D6-39E8-493F-BE39-644DA4F9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E550A-45B4-44F8-928A-7AD61832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6D6B0C-49C2-4E7F-84C0-FA4B79D5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7FD77-A5A0-472A-86CE-23465128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2EC60-C32A-48B1-9B3D-CB507B33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76BDDD-AC43-43A6-934F-3E46C4D7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8B6A7-0C42-4DAE-B308-113D2B72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D404D-306F-4774-8894-31C5B2F6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7E6E8-750A-42A1-A6E4-E7E8C9128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73087-44C1-4F08-8B68-AF29126B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6CB7-2441-4396-878C-5D056FDE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E482F-72BA-4C04-94F6-C9B36F11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6186E8-6140-428B-8EA2-3A133770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FBBFF-542A-4317-B410-D9C7A249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3BDDB8-74E9-4454-BFA3-9E853B94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F4A7A-59B9-4DF3-B30D-BCC17DA9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96E68-3C50-46B8-9237-4609BDF8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2B0F1-8624-4512-ACBA-DC312B29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4284CE-68E5-46EB-A83E-CDA42B4E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3A5BC2-C186-4B4E-8EC7-9C2B7310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0E471-B450-4979-851B-86FEA7EC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9F4B-B7F4-445C-B740-EEFF8E9C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F5A8C-417A-4B5E-900D-0DE430CA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9D3D9F-4E52-4536-946F-6F70D9E6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A18E67-E2D5-4552-8A7D-B93A545C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DF59D-7D8E-47FF-AD92-1604CD54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B8170-AA39-4F0D-BF69-CF1DF8E8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B6B72-CDE2-4D5F-9705-D81F28B3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ADD9CE-D6F2-423F-8E7E-5CC8D8B4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2A3BC5-CB1A-41E7-9334-FC7AD74A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85013-5EA8-497F-944C-C7221CFB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8A7CF8-B7B3-433A-9131-3B89902F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764F-AE17-4C12-94E7-BD8DE999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304594-E8E7-401B-8FA8-00D01B55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4E28B-99E0-47F8-9E84-8B830F0B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24162-2A37-4373-AE5C-AB70C12D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D6D6DE-F87C-400C-AE78-F38EA14D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B8EC4-A6BE-460C-8D13-BD1EEF2F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662F0-8E03-478B-913F-E28A19A3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5F49AB-0DB2-4C17-94A1-D430025E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BF1D07-D11F-4F15-BF79-EE0F67BA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EC3271-50D4-4B9B-AC35-20A40D0C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E395B3-48A6-4285-ACCD-E7457B43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01F-6AC7-4530-97AD-CB03DDAE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98FE-8463-4EFE-B8C9-7D987248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164888-9838-45C2-B2F5-08E693ED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262826-2917-43F3-9EFD-16409547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4D992-BE1C-4EE6-9843-059D9324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4C7038-CA5A-4364-A80E-F6853FD2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82C28F-F295-4B17-BE64-76202390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A2D743-EBF7-4D7C-BCDA-3D09166A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9AA8E2-9127-4897-8C73-D6616194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AE911B-FE6D-49B1-BF66-78287BE2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06DE0E-D9C9-410F-8BEB-99426B07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AF4822-D593-4CC6-B833-1737D5F5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66F8-5E9D-48D6-B7D6-2C4A152D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447F37-69A1-40AE-8B0F-65622FBA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2F9846-AB88-4718-B807-8E35A3D8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363D5-75A8-4205-A780-C726C813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69069E-4D02-418C-861A-B6C1AAFF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DF817A-8ACF-4988-9ACC-82DE9032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D5EEF4-C69F-4362-A782-87F8BE5D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880D4D-F5F3-43D7-A2E6-0979009B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5729BE-995F-4F0C-88A7-C40B1195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C943F4-7675-4A44-81D3-6CE5C2B7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342507-A91D-4CD5-8150-22EC1C03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719B-D54B-47A6-8425-D32A4421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4546C3-0CB1-49A7-B043-E07618A8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842A7E-F979-4449-A0B4-DDB95CF5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8C913A-DDCA-4DB4-947F-025F3E00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EDC7E9-FF1F-4013-ABC6-DA7A1C21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2D060-5B06-488F-A001-A7275B93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07FFC5-C5A6-4E34-951D-4CE4A6B3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F2BB10-B200-4873-BE35-8C52D9B0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972591-3157-404A-9060-36ADF8DF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9F4F7D-DCD8-48C1-A767-A2C20CCE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C8DF30-605D-42E5-AFB4-34FBD5D7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690E-E4D7-4AC2-98D9-98D4D12A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D962AC-91B6-4D1A-846F-303A24F1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BF033E-06B3-4A1D-BD73-B054DFEF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39E222-903E-4BF6-B524-242C14EC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BAEE97-6E9A-4326-8295-1A2A3FB7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D4F9C-1280-454B-98FD-85B55D25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3F1E4A-F184-40B6-9490-D79BC2A2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5C2823-05A3-4A2B-AC55-CCBBC8AA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9AE61B-A1F1-4BF3-AE22-9A837B0C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E3F80C-B12F-472A-94D5-2D34A86F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C4FEA-9CB8-4468-A39B-6AD7E1A7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7656-A043-4E19-BE79-8D534C51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892037-3B39-4540-85F4-FF79F9B2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2EB2AA-159E-448C-A005-A5A9EB53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916989-0012-4950-8539-423AA5C2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FBEE3B-5CDA-44FE-973E-75AB17CB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E24896-8B56-4A89-A6EB-6774D505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9C87A1-5DEE-43E6-9AB5-7CE991F4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C63639-6E49-4A6D-8865-29294C98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B189DA-9540-45FC-BF9C-3026FCE5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B6F88B-36AE-4F99-A8C1-DE687089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B076F1-30C2-40BF-9CFB-11D566F3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2C963-4331-418D-AFFA-10AB2129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B50997-517B-4419-A5F7-AC8D4CF6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98562F-1850-4B32-AEC0-E6D0007E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5D404A-8C54-4482-B1C2-80FBEAB5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558098-CDBC-48AF-BA5B-3A915318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8B37CD-7248-450E-AC17-566ECBE3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CE6537-FFBE-420E-BB19-34CCB6ED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E0229F-37A2-4E7A-8C1E-AB669FDA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CB0239-D4A5-498B-8499-EA205353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D907A9-4F6A-45A5-83D0-5AFBAEB5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E89FCB-C365-4C23-91D0-8566D304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FE16-C35D-4A7E-B02E-E787E461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B1F252-8B27-45DB-A01E-58CC8E68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927922-7A45-47F2-BBF8-A8EE6D21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6B6C8A-B73E-4ECB-97AF-769C1F32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FE154C-7A73-4950-9FCF-C6CA4B3D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588CBC-300D-4139-A87C-7AC39449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6D9C9C-0519-4E41-8E85-962A77B9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5E0CC6-B982-4F12-AF6C-AF1FE2D4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224F29-8452-46ED-9F9F-F766C5DC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0683A4-F2D4-437B-A266-142EC808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DBA167-6290-4C95-8319-7E16DB7C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B72FF-1C22-4B5F-89CC-09754B49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CBA9CB-1744-49F8-BE62-13003668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F9E2A2-BC76-4EE4-9707-61E5562D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5F7972-D994-47F0-8854-D8940A32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78F884-710B-49D1-A762-3D6238B5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C4EBC2-0194-479C-BA41-99DBD037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39FEEC-A29A-4CEA-9BCD-A493A413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0C9E40-EDBD-45FC-B4C0-AECE1506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2B3BE8-8E3C-4150-B5FC-62960872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312298-7A2F-48DD-B7DE-855DDD0A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975AEC-3733-4419-B2E0-46E0C6C4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9BFB-D06A-437A-92A3-7915076B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C3F8A9-5366-4904-9FBB-8C25B711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82463C-FAA4-4FC7-8480-4ECC40BE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593561-0AFC-427B-B14D-8EB51376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4BD651-ADE6-4EF5-A3B8-1A7127D8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F7CF00-A459-49C0-AB61-49E427F4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79E772-77DA-40EF-BDA6-90E9C328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A9F20A-0A17-41CA-96C1-5CBEC4DD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5ADD3D-AE11-4DA6-B64B-F4E5652A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D0A03E-738A-4703-B3B3-F41B1C7A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34244E-0B74-4BE9-8D1D-69D53415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CF0F0-649D-48EB-8207-CF044F63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1BB126-5023-4C45-832B-4FC30AD6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088D4B-5466-470F-AE01-F7F73A07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055CAF-AC1E-41DC-8BAA-5674A32A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ADCBF2-3ACF-4D7D-8D42-EE6CFA19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F18A6E-674B-4B00-8D07-252B4C88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432298-DC19-40C5-A1C4-D1D2F578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95CB09-AFFF-4D40-9840-D5971B6B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E4ABE1-35EE-416A-96B4-A9160EE5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96D222-EFD7-4045-B080-7BF5C9D8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9F579E-716A-4E0B-A67B-DE462E3A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8479-FE52-4986-BB36-9583C775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24850-69B9-497C-B6FF-34A6D87E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849CB6-2A6C-41F3-B32F-C3D5F888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6BE7CD-2B72-4A15-9772-28A52CB4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6941BD-61BF-4797-8FE5-58F4C4DD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7A1CDF-12F4-4B14-B989-618F8903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8BE3DD-035F-40AB-96AC-8260B92B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F64275-DCD8-4799-9645-FFB1D6F1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7D71AD-746A-41FF-A472-2997B9E7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66190B-BEFF-429B-864E-A574D120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5435EA-2C29-469A-ABAA-EA652F38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852353-1DCB-4E03-B86E-4C2DF4B1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ACDE6-B963-4827-A6DC-98FEE659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55A051-09E9-474E-812E-F224AEEC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6B1451-5156-4F0D-AA7E-533356E6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AE7067-FC28-44E7-80AA-4982C47F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B420E2-F04E-450E-BB4D-436485BE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D92C64-3E0E-4256-B304-287CD309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D9906A-1FD3-45EC-A1B8-7B6FEB2F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D5327A-F276-491F-B0EA-EAE78215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BA160C-17B2-4AC8-8261-501BF9B8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741A5B-1061-4F82-87DB-A7FBCBBC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2CF631-B8B7-4FFF-9755-13DCB028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4617D-374F-4618-9405-69123702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8B0C3E-A1C2-4845-BDDC-F9A79CE9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7B1BA5-C492-45FA-83E8-4E95A60D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B67D80-F836-4BB3-8B11-4594DB42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C736D3-AEF9-4B77-B9BA-12F49A7D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E6E9EB-9BD8-451F-B181-D47E7463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1E71AF-2397-4321-8B81-14349E7C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8B370E-E49F-4CAC-BEB4-1523AB9B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0E1022-50AF-4A9B-AA31-73187AEF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0843C0-9D92-4671-A9A9-26DC6637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8ABF1C-832A-46C5-9F25-E95D6256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46DEB-9E35-4BF7-AC4C-01503506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5E82BA-A0AF-4C51-A778-3BE875E2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490E8A-6BB7-44AF-B7B7-1AF5A393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9AC069-93F4-4A7A-AB93-861D5820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6381BA-7000-48B5-9FDF-B560301C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67318F-647A-4C09-98AB-18CD499E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517705-FC14-42CA-A56D-382AEF93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E0FB0B-94C2-46DD-92B3-BBE157B9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8DDFE8-4318-4A51-927E-B91DAF12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226B3D-77A3-4874-A134-0321B184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C14930-C430-4D25-AADC-52C16A3A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E3FD4-FE9F-458B-9FBA-F20F2488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A98359-A6B0-4036-A5E8-676B59C6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BC63F5-701C-4AC2-B3A1-300AFFBC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865BE4-6189-4B53-9569-F4BE4F9C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0DC283-23DE-4298-8E42-16FB3CE3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3DE4A9-2D8C-4140-99C6-42B60512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518626-91C3-409D-91BC-549992B4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FB7A7F-088C-4D94-8C0E-AE1B269E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0D7FB8-C3A2-4279-BE13-D08D512D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E2F9E7-9105-41B2-AFEE-FF5394A1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EEF875-072D-4B9E-A171-A6BBE5D4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229C-01B5-4329-A3C5-403C196C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3F4E74-6DFE-4D73-AA83-9057F24D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F9E546-F45E-4EF9-9308-B7420AD6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F53EA8-C78A-47C3-830D-6EB3ADB2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A3564D-DE70-4778-BAB7-53E4BE37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F4E4C1-BA58-4A66-831F-B62A6B8A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22F504-3711-4327-9E08-F5DB04B3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52EA53-D463-4DFB-BB0C-E7DE627F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0CF0FE-E8EA-4D70-92D6-9117FFD9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CA88BC-3813-4509-A8BB-46B84AAB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D6D79C-05F4-481C-BD41-F0BF4E4C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55F4-A9D4-4808-8A0B-640B192B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08B452-059A-453D-842A-CC805FC3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DAB69C-C5FA-40AC-85D6-0C082FB4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585334-2A77-4661-97DD-E41506C5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AC7EA7-F126-4326-91A0-94901ECB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90684E-1F19-45E3-8021-FDBA0330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D9133A-35CD-4063-A0D3-B57F3F6D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6C73E8-B245-4303-9360-30D763ED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BADD27-DCF5-4A7B-8747-7804D022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7D6648-7319-4D2D-B336-F9E395D5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2711EB-64A8-426A-81C6-E1507F8C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E278E-AA4F-4C1B-833E-D233E871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559FBD-B927-4182-8F6E-5CDBF419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F8ACDF-21CA-4A98-BF2A-7FFFF042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9EE637-9ACF-42FC-9A75-A129356A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ABBFC-2401-4922-9AE4-BF2E27B9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EA746-6DE6-43B1-9161-51244B97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9577-A144-4DF4-9E2E-D28C22C1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88F62-913A-49B0-A49A-7146106E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F101B-4E53-47A9-B3E8-F2297649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4354D-C677-4B1E-A376-5E4573C3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3CD49-B006-4125-A755-5D41458B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1404-7038-449E-9FD2-77DDCCB8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60315-1EE8-4CCD-A821-EF58EA2D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34A95-070B-474E-B165-6C4C742C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6F1F1-5CF2-4BC5-9C39-0320AD30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AF7BD-76D0-4996-8DA3-883B269E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CD4A1-52E4-4A0D-9AC5-B099BDBF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B29-0305-417C-BD1B-47DC067A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9BC8F-4808-4074-A704-0AB43691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3DE2A-3117-415D-849B-382BF3F4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48DAC-3126-4C19-8C8A-3A8086C3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8C16D-7C87-48C2-B365-590D5EC3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E9749-7AC0-4FEC-83F3-8D56F070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5FCEC-8D83-4803-A08D-992BB022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40EF2-E966-41B3-BF5B-F4910006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F445B-CCB3-4160-8A8C-DD802E09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5AD4A-0A7E-4B72-829F-8C2FA483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CE551-04B2-48CE-9A3F-68C9075C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7E5-A79F-459A-9346-262CE765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11001-DEDA-4063-9294-FEDAC3F3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1B199-3960-474E-9E6F-08DE7F3E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6D67E-1F70-4360-AF60-9B7A341E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B3EA8-0C0D-407F-9607-6AE57FA7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F7562-BA44-49D3-A746-082465A0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D3936-25DC-4EE7-933B-CA57A6EE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D2928-2B61-4B70-8E69-3B985163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C9795-D28D-41EE-B793-B46E7F9B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47BB6-3877-49E1-B844-9A60B0D0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5CE26-D3AD-41F9-9D82-58C59F58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09F-FA50-44A4-8739-85976669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834A9-9EB4-4828-9131-0481985C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566E6-6647-4CF5-BA2E-90B5F3E3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A9CF8-D6CA-4889-860D-F0C1CA98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AB92E-CB99-4581-8326-5268A988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1E3C3-DDC4-440F-9D63-75F0CD89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4F898-A83F-4DA6-86A2-5FC89B95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46892-D023-44EF-9301-D9637F42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B02DD-2E0A-486A-8BA9-A1E7E4BE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E891D-A637-42F2-BAF6-D63A09A3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8AE4E-DEE8-4776-B060-3220E1BE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F07-BDA9-4F0B-86C1-309A4D97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CE708-1F39-445B-B8EA-A0AA6EEE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8A604-16AF-4775-B00A-4EEB46D7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E1E0E-F3F1-4DC8-B45C-D986C862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D6F33-10F5-4F5F-85AE-95D3BB65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8F1E9-B467-49CC-8189-47CE2977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C378E-3E7D-488A-A461-F35B5F48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10514-3B84-42ED-8FE5-B1738F30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91189-4FF5-4423-B60D-F0BB2CCA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FFC4C-672F-4239-8735-DE0412B5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26C03-2A6F-41CA-BEF2-1C5DB38C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345-0C81-4777-A784-70F327D5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11C13-9324-4AE0-BB89-F2AA26A2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E1D8B-3871-4F9A-88D9-A7CC8D4F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963A6-B271-4800-8F23-3E74AB18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31A62-B3AC-4869-8722-42479E1C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7D368-5AA2-4242-863A-F97B8154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43BB0-CCCC-4523-8D3F-5B16993B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EFFBA-A933-47D0-8B69-C9549228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DFA24-CFA6-432F-A675-89AF626D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E60BE-6908-41B8-9FD3-05D46720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6DF30-E5B6-49B9-99B4-CE2FC92A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2CE3-E5BA-4898-B23A-9B34ABCAF7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544F-C281-49EF-85AF-1AABBC643C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5F74-7040-4A3A-9D1F-0DADD40CB9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141C-588D-466C-92ED-6B0AFFC886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FFD2-9E5D-45B7-9323-91C4148165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2830-9CED-4457-8802-A229DCFE2D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9EA8-27E6-4FA1-BE91-C578E06C28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F9F6-D001-4236-B738-48C6285DB3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E5FC-FE79-4F02-B7EA-58652FF981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4AF8-9C41-4ADA-A38B-768131E105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984C-C54C-4057-8FCA-37AE4A1257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03D8-1331-4CF8-90C8-D49976B4E0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E68E-F0F9-43E0-AA5D-A79F548DE6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C669-5B82-42A7-9626-D089594758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3CE1-0CA4-45EE-82C5-BF8AFB8A6A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2855-5FC7-4029-A406-7301950C6C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86C1-7DCA-42A0-8BFC-68E56212AC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1D15-A685-4CE8-AD66-3A3443D16B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D6D8-5CFD-4403-A0CB-E9B1A6BF4E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AA42-C61D-4710-9A64-A4B7A282C7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405F-3393-49A7-8D81-68E281CDBE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A8F5-07E1-4A98-AB1E-E6E3EE4333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B083-B707-403D-8A86-66531A9A61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F262-C75A-4D89-AF9F-EB7D6E3EFA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914A-0CC5-4B8B-84DB-528A0FB278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9FE5-9F57-409E-A09B-7922424C08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8908-6BB9-41FD-91BE-23620AA8F1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6EFE-B08A-4483-9744-3C65D3CF3A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8EBB-6297-4E8C-8FFE-D28C61A3E8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5BD6-4364-40D3-B170-FC9208C05A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EB2D-58D8-4D9E-BFA3-D70A8A96FF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8781-5003-4107-8436-0A715E4E20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3FD3-EF66-4EB1-87E4-747624765C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9910-907F-444D-BCE9-5FD319BF4D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E704-6989-468E-B3C5-A1A6ADB0A2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B16D-5438-468F-B68B-F53AE396B5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DA6C9-4D32-484B-A336-C97AE5D114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7798-02C2-41AF-8419-87CCEFDE53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B000-C655-4436-AEED-9B6FAF20D9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92D6-277B-46D4-BB9E-46DFDE0BB4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666F-AC5F-4846-869B-F0E924C617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BD29-051B-4594-A88C-02AF8214A3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AFB3-4DF9-45BB-9F3C-4DA099374A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33A5-C765-4630-8B3A-89BBDD350D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D27D-EA07-4DBD-BE0B-E81C2BF1C7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9E72-C93B-4BA3-83F3-7D47415C39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5BFB-CDAE-43FE-9114-E37A7210E1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94CF-DC0E-424A-A555-DC58D55295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2D9C-0C5E-498A-A9F9-242C36ADF3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4B71-7A92-4161-A6CD-F20B63EED4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78" descr=""/>
          <p:cNvPicPr/>
          <p:nvPr/>
        </p:nvPicPr>
        <p:blipFill>
          <a:blip r:embed="rId1"/>
          <a:stretch/>
        </p:blipFill>
        <p:spPr>
          <a:xfrm>
            <a:off x="1166760" y="2071800"/>
            <a:ext cx="68104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组合 69635"/>
          <p:cNvGrpSpPr/>
          <p:nvPr/>
        </p:nvGrpSpPr>
        <p:grpSpPr>
          <a:xfrm>
            <a:off x="209520" y="836640"/>
            <a:ext cx="8724960" cy="4944960"/>
            <a:chOff x="209520" y="836640"/>
            <a:chExt cx="8724960" cy="4944960"/>
          </a:xfrm>
        </p:grpSpPr>
        <p:pic>
          <p:nvPicPr>
            <p:cNvPr id="1469" name="图片 69633" descr=""/>
            <p:cNvPicPr/>
            <p:nvPr/>
          </p:nvPicPr>
          <p:blipFill>
            <a:blip r:embed="rId1"/>
            <a:stretch/>
          </p:blipFill>
          <p:spPr>
            <a:xfrm>
              <a:off x="209520" y="1076400"/>
              <a:ext cx="8724960" cy="47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0" name="图片 69634" descr=""/>
            <p:cNvPicPr/>
            <p:nvPr/>
          </p:nvPicPr>
          <p:blipFill>
            <a:blip r:embed="rId2"/>
            <a:stretch/>
          </p:blipFill>
          <p:spPr>
            <a:xfrm>
              <a:off x="7596360" y="836640"/>
              <a:ext cx="1152360" cy="54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71" name="Picture 1" descr=""/>
          <p:cNvPicPr/>
          <p:nvPr/>
        </p:nvPicPr>
        <p:blipFill>
          <a:blip r:embed="rId3"/>
          <a:stretch/>
        </p:blipFill>
        <p:spPr>
          <a:xfrm>
            <a:off x="8244000" y="19749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" descr=""/>
          <p:cNvPicPr/>
          <p:nvPr/>
        </p:nvPicPr>
        <p:blipFill>
          <a:blip r:embed="rId4"/>
          <a:stretch/>
        </p:blipFill>
        <p:spPr>
          <a:xfrm>
            <a:off x="2268360" y="5315040"/>
            <a:ext cx="648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68609" descr=""/>
          <p:cNvPicPr/>
          <p:nvPr/>
        </p:nvPicPr>
        <p:blipFill>
          <a:blip r:embed="rId1"/>
          <a:stretch/>
        </p:blipFill>
        <p:spPr>
          <a:xfrm>
            <a:off x="223920" y="2543040"/>
            <a:ext cx="8696160" cy="177192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" descr=""/>
          <p:cNvPicPr/>
          <p:nvPr/>
        </p:nvPicPr>
        <p:blipFill>
          <a:blip r:embed="rId2"/>
          <a:stretch/>
        </p:blipFill>
        <p:spPr>
          <a:xfrm>
            <a:off x="395280" y="3400560"/>
            <a:ext cx="5545080" cy="38412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" descr=""/>
          <p:cNvPicPr/>
          <p:nvPr/>
        </p:nvPicPr>
        <p:blipFill>
          <a:blip r:embed="rId3"/>
          <a:stretch/>
        </p:blipFill>
        <p:spPr>
          <a:xfrm>
            <a:off x="352440" y="3803760"/>
            <a:ext cx="1655640" cy="38412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" descr=""/>
          <p:cNvPicPr/>
          <p:nvPr/>
        </p:nvPicPr>
        <p:blipFill>
          <a:blip r:embed="rId4"/>
          <a:stretch/>
        </p:blipFill>
        <p:spPr>
          <a:xfrm>
            <a:off x="2036880" y="3803760"/>
            <a:ext cx="2390760" cy="38412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" descr=""/>
          <p:cNvPicPr/>
          <p:nvPr/>
        </p:nvPicPr>
        <p:blipFill>
          <a:blip r:embed="rId5"/>
          <a:stretch/>
        </p:blipFill>
        <p:spPr>
          <a:xfrm>
            <a:off x="4427640" y="3832200"/>
            <a:ext cx="1655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67585" descr=""/>
          <p:cNvPicPr/>
          <p:nvPr/>
        </p:nvPicPr>
        <p:blipFill>
          <a:blip r:embed="rId1"/>
          <a:stretch/>
        </p:blipFill>
        <p:spPr>
          <a:xfrm>
            <a:off x="152280" y="2048040"/>
            <a:ext cx="8839440" cy="276192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" descr=""/>
          <p:cNvPicPr/>
          <p:nvPr/>
        </p:nvPicPr>
        <p:blipFill>
          <a:blip r:embed="rId2"/>
          <a:stretch/>
        </p:blipFill>
        <p:spPr>
          <a:xfrm>
            <a:off x="7972560" y="3832200"/>
            <a:ext cx="51732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0" name="组合 66563"/>
          <p:cNvGrpSpPr/>
          <p:nvPr/>
        </p:nvGrpSpPr>
        <p:grpSpPr>
          <a:xfrm>
            <a:off x="252360" y="1028880"/>
            <a:ext cx="8639280" cy="5136840"/>
            <a:chOff x="252360" y="1028880"/>
            <a:chExt cx="8639280" cy="5136840"/>
          </a:xfrm>
        </p:grpSpPr>
        <p:pic>
          <p:nvPicPr>
            <p:cNvPr id="1481" name="图片 66561" descr=""/>
            <p:cNvPicPr/>
            <p:nvPr/>
          </p:nvPicPr>
          <p:blipFill>
            <a:blip r:embed="rId1"/>
            <a:stretch/>
          </p:blipFill>
          <p:spPr>
            <a:xfrm>
              <a:off x="252360" y="1028880"/>
              <a:ext cx="863928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2" name="图片 66562" descr=""/>
            <p:cNvPicPr/>
            <p:nvPr/>
          </p:nvPicPr>
          <p:blipFill>
            <a:blip r:embed="rId2"/>
            <a:stretch/>
          </p:blipFill>
          <p:spPr>
            <a:xfrm>
              <a:off x="4932360" y="3573360"/>
              <a:ext cx="3527280" cy="259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3" name="Picture 1" descr=""/>
          <p:cNvPicPr/>
          <p:nvPr/>
        </p:nvPicPr>
        <p:blipFill>
          <a:blip r:embed="rId3"/>
          <a:stretch/>
        </p:blipFill>
        <p:spPr>
          <a:xfrm>
            <a:off x="8028000" y="2060640"/>
            <a:ext cx="51768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组合 65539"/>
          <p:cNvGrpSpPr/>
          <p:nvPr/>
        </p:nvGrpSpPr>
        <p:grpSpPr>
          <a:xfrm>
            <a:off x="181080" y="907920"/>
            <a:ext cx="8781840" cy="4876920"/>
            <a:chOff x="181080" y="907920"/>
            <a:chExt cx="8781840" cy="4876920"/>
          </a:xfrm>
        </p:grpSpPr>
        <p:pic>
          <p:nvPicPr>
            <p:cNvPr id="1485" name="图片 65537" descr=""/>
            <p:cNvPicPr/>
            <p:nvPr/>
          </p:nvPicPr>
          <p:blipFill>
            <a:blip r:embed="rId1"/>
            <a:stretch/>
          </p:blipFill>
          <p:spPr>
            <a:xfrm>
              <a:off x="181080" y="907920"/>
              <a:ext cx="8781840" cy="48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6" name="图片 65538" descr=""/>
            <p:cNvPicPr/>
            <p:nvPr/>
          </p:nvPicPr>
          <p:blipFill>
            <a:blip r:embed="rId2"/>
            <a:stretch/>
          </p:blipFill>
          <p:spPr>
            <a:xfrm>
              <a:off x="826920" y="1052640"/>
              <a:ext cx="4321440" cy="259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7" name="Picture 1" descr=""/>
          <p:cNvPicPr/>
          <p:nvPr/>
        </p:nvPicPr>
        <p:blipFill>
          <a:blip r:embed="rId3"/>
          <a:stretch/>
        </p:blipFill>
        <p:spPr>
          <a:xfrm>
            <a:off x="1187280" y="5200560"/>
            <a:ext cx="86364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64513" descr=""/>
          <p:cNvPicPr/>
          <p:nvPr/>
        </p:nvPicPr>
        <p:blipFill>
          <a:blip r:embed="rId1"/>
          <a:stretch/>
        </p:blipFill>
        <p:spPr>
          <a:xfrm>
            <a:off x="204840" y="689040"/>
            <a:ext cx="8734320" cy="6124680"/>
          </a:xfrm>
          <a:prstGeom prst="rect">
            <a:avLst/>
          </a:prstGeom>
          <a:ln w="0">
            <a:noFill/>
          </a:ln>
        </p:spPr>
      </p:pic>
      <p:pic>
        <p:nvPicPr>
          <p:cNvPr id="1489" name="Picture 1" descr=""/>
          <p:cNvPicPr/>
          <p:nvPr/>
        </p:nvPicPr>
        <p:blipFill>
          <a:blip r:embed="rId2"/>
          <a:stretch/>
        </p:blipFill>
        <p:spPr>
          <a:xfrm>
            <a:off x="684360" y="2233440"/>
            <a:ext cx="3382920" cy="460440"/>
          </a:xfrm>
          <a:prstGeom prst="rect">
            <a:avLst/>
          </a:prstGeom>
          <a:ln w="0">
            <a:noFill/>
          </a:ln>
        </p:spPr>
      </p:pic>
      <p:pic>
        <p:nvPicPr>
          <p:cNvPr id="1490" name="Picture 1" descr=""/>
          <p:cNvPicPr/>
          <p:nvPr/>
        </p:nvPicPr>
        <p:blipFill>
          <a:blip r:embed="rId3"/>
          <a:stretch/>
        </p:blipFill>
        <p:spPr>
          <a:xfrm>
            <a:off x="395280" y="2722680"/>
            <a:ext cx="3382920" cy="460080"/>
          </a:xfrm>
          <a:prstGeom prst="rect">
            <a:avLst/>
          </a:prstGeom>
          <a:ln w="0">
            <a:noFill/>
          </a:ln>
        </p:spPr>
      </p:pic>
      <p:pic>
        <p:nvPicPr>
          <p:cNvPr id="1491" name="Picture 1" descr=""/>
          <p:cNvPicPr/>
          <p:nvPr/>
        </p:nvPicPr>
        <p:blipFill>
          <a:blip r:embed="rId4"/>
          <a:stretch/>
        </p:blipFill>
        <p:spPr>
          <a:xfrm>
            <a:off x="684360" y="3241800"/>
            <a:ext cx="3382920" cy="460080"/>
          </a:xfrm>
          <a:prstGeom prst="rect">
            <a:avLst/>
          </a:prstGeom>
          <a:ln w="0">
            <a:noFill/>
          </a:ln>
        </p:spPr>
      </p:pic>
      <p:pic>
        <p:nvPicPr>
          <p:cNvPr id="1492" name="Picture 1" descr=""/>
          <p:cNvPicPr/>
          <p:nvPr/>
        </p:nvPicPr>
        <p:blipFill>
          <a:blip r:embed="rId5"/>
          <a:stretch/>
        </p:blipFill>
        <p:spPr>
          <a:xfrm>
            <a:off x="4140360" y="3241800"/>
            <a:ext cx="1439640" cy="46008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1" descr=""/>
          <p:cNvPicPr/>
          <p:nvPr/>
        </p:nvPicPr>
        <p:blipFill>
          <a:blip r:embed="rId6"/>
          <a:stretch/>
        </p:blipFill>
        <p:spPr>
          <a:xfrm>
            <a:off x="682560" y="3789360"/>
            <a:ext cx="936720" cy="460440"/>
          </a:xfrm>
          <a:prstGeom prst="rect">
            <a:avLst/>
          </a:prstGeom>
          <a:ln w="0">
            <a:noFill/>
          </a:ln>
        </p:spPr>
      </p:pic>
      <p:pic>
        <p:nvPicPr>
          <p:cNvPr id="1494" name="Picture 1" descr=""/>
          <p:cNvPicPr/>
          <p:nvPr/>
        </p:nvPicPr>
        <p:blipFill>
          <a:blip r:embed="rId7"/>
          <a:stretch/>
        </p:blipFill>
        <p:spPr>
          <a:xfrm>
            <a:off x="1663560" y="3789360"/>
            <a:ext cx="3195720" cy="46044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1" descr=""/>
          <p:cNvPicPr/>
          <p:nvPr/>
        </p:nvPicPr>
        <p:blipFill>
          <a:blip r:embed="rId8"/>
          <a:stretch/>
        </p:blipFill>
        <p:spPr>
          <a:xfrm>
            <a:off x="539640" y="4292640"/>
            <a:ext cx="3195720" cy="46044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1" descr=""/>
          <p:cNvPicPr/>
          <p:nvPr/>
        </p:nvPicPr>
        <p:blipFill>
          <a:blip r:embed="rId9"/>
          <a:stretch/>
        </p:blipFill>
        <p:spPr>
          <a:xfrm>
            <a:off x="684360" y="4854600"/>
            <a:ext cx="7991280" cy="46044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1" descr=""/>
          <p:cNvPicPr/>
          <p:nvPr/>
        </p:nvPicPr>
        <p:blipFill>
          <a:blip r:embed="rId10"/>
          <a:stretch/>
        </p:blipFill>
        <p:spPr>
          <a:xfrm>
            <a:off x="468360" y="5373720"/>
            <a:ext cx="7991280" cy="460440"/>
          </a:xfrm>
          <a:prstGeom prst="rect">
            <a:avLst/>
          </a:prstGeom>
          <a:ln w="0">
            <a:noFill/>
          </a:ln>
        </p:spPr>
      </p:pic>
      <p:pic>
        <p:nvPicPr>
          <p:cNvPr id="1498" name="Picture 1" descr=""/>
          <p:cNvPicPr/>
          <p:nvPr/>
        </p:nvPicPr>
        <p:blipFill>
          <a:blip r:embed="rId11"/>
          <a:stretch/>
        </p:blipFill>
        <p:spPr>
          <a:xfrm>
            <a:off x="468360" y="5834160"/>
            <a:ext cx="7991280" cy="46044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1" descr=""/>
          <p:cNvPicPr/>
          <p:nvPr/>
        </p:nvPicPr>
        <p:blipFill>
          <a:blip r:embed="rId12"/>
          <a:stretch/>
        </p:blipFill>
        <p:spPr>
          <a:xfrm>
            <a:off x="395280" y="6383160"/>
            <a:ext cx="799164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图片 63489" descr=""/>
          <p:cNvPicPr/>
          <p:nvPr/>
        </p:nvPicPr>
        <p:blipFill>
          <a:blip r:embed="rId1"/>
          <a:stretch/>
        </p:blipFill>
        <p:spPr>
          <a:xfrm>
            <a:off x="214200" y="698400"/>
            <a:ext cx="8715600" cy="611532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1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4824360" cy="46008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1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4824360" cy="46044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1" descr=""/>
          <p:cNvPicPr/>
          <p:nvPr/>
        </p:nvPicPr>
        <p:blipFill>
          <a:blip r:embed="rId4"/>
          <a:stretch/>
        </p:blipFill>
        <p:spPr>
          <a:xfrm>
            <a:off x="468360" y="3284640"/>
            <a:ext cx="3527280" cy="4604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" descr=""/>
          <p:cNvPicPr/>
          <p:nvPr/>
        </p:nvPicPr>
        <p:blipFill>
          <a:blip r:embed="rId5"/>
          <a:stretch/>
        </p:blipFill>
        <p:spPr>
          <a:xfrm>
            <a:off x="3995640" y="3284640"/>
            <a:ext cx="2305080" cy="46044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" descr=""/>
          <p:cNvPicPr/>
          <p:nvPr/>
        </p:nvPicPr>
        <p:blipFill>
          <a:blip r:embed="rId6"/>
          <a:stretch/>
        </p:blipFill>
        <p:spPr>
          <a:xfrm>
            <a:off x="611280" y="3832200"/>
            <a:ext cx="4105080" cy="46044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" descr=""/>
          <p:cNvPicPr/>
          <p:nvPr/>
        </p:nvPicPr>
        <p:blipFill>
          <a:blip r:embed="rId7"/>
          <a:stretch/>
        </p:blipFill>
        <p:spPr>
          <a:xfrm>
            <a:off x="468360" y="4365720"/>
            <a:ext cx="4105080" cy="15112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" descr=""/>
          <p:cNvPicPr/>
          <p:nvPr/>
        </p:nvPicPr>
        <p:blipFill>
          <a:blip r:embed="rId8"/>
          <a:stretch/>
        </p:blipFill>
        <p:spPr>
          <a:xfrm>
            <a:off x="611280" y="5877000"/>
            <a:ext cx="4968720" cy="4604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" descr=""/>
          <p:cNvPicPr/>
          <p:nvPr/>
        </p:nvPicPr>
        <p:blipFill>
          <a:blip r:embed="rId9"/>
          <a:stretch/>
        </p:blipFill>
        <p:spPr>
          <a:xfrm>
            <a:off x="611280" y="6383160"/>
            <a:ext cx="496872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9" name="组合 62467"/>
          <p:cNvGrpSpPr/>
          <p:nvPr/>
        </p:nvGrpSpPr>
        <p:grpSpPr>
          <a:xfrm>
            <a:off x="297000" y="189000"/>
            <a:ext cx="8667720" cy="6383160"/>
            <a:chOff x="297000" y="189000"/>
            <a:chExt cx="8667720" cy="6383160"/>
          </a:xfrm>
        </p:grpSpPr>
        <p:pic>
          <p:nvPicPr>
            <p:cNvPr id="1510" name="图片 62465" descr=""/>
            <p:cNvPicPr/>
            <p:nvPr/>
          </p:nvPicPr>
          <p:blipFill>
            <a:blip r:embed="rId1"/>
            <a:stretch/>
          </p:blipFill>
          <p:spPr>
            <a:xfrm>
              <a:off x="297000" y="189000"/>
              <a:ext cx="8667720" cy="30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1" name="图片 62466" descr=""/>
            <p:cNvPicPr/>
            <p:nvPr/>
          </p:nvPicPr>
          <p:blipFill>
            <a:blip r:embed="rId2"/>
            <a:stretch/>
          </p:blipFill>
          <p:spPr>
            <a:xfrm>
              <a:off x="773280" y="3429000"/>
              <a:ext cx="8191440" cy="314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2" name="Picture 1" descr=""/>
          <p:cNvPicPr/>
          <p:nvPr/>
        </p:nvPicPr>
        <p:blipFill>
          <a:blip r:embed="rId3"/>
          <a:stretch/>
        </p:blipFill>
        <p:spPr>
          <a:xfrm>
            <a:off x="755640" y="2233440"/>
            <a:ext cx="6192720" cy="460440"/>
          </a:xfrm>
          <a:prstGeom prst="rect">
            <a:avLst/>
          </a:prstGeom>
          <a:ln w="0">
            <a:noFill/>
          </a:ln>
        </p:spPr>
      </p:pic>
      <p:pic>
        <p:nvPicPr>
          <p:cNvPr id="1513" name="Picture 1" descr=""/>
          <p:cNvPicPr/>
          <p:nvPr/>
        </p:nvPicPr>
        <p:blipFill>
          <a:blip r:embed="rId4"/>
          <a:stretch/>
        </p:blipFill>
        <p:spPr>
          <a:xfrm>
            <a:off x="6977160" y="2205000"/>
            <a:ext cx="1915920" cy="46044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1" descr=""/>
          <p:cNvPicPr/>
          <p:nvPr/>
        </p:nvPicPr>
        <p:blipFill>
          <a:blip r:embed="rId5"/>
          <a:stretch/>
        </p:blipFill>
        <p:spPr>
          <a:xfrm>
            <a:off x="698400" y="2736720"/>
            <a:ext cx="3600720" cy="46044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1" descr=""/>
          <p:cNvPicPr/>
          <p:nvPr/>
        </p:nvPicPr>
        <p:blipFill>
          <a:blip r:embed="rId6"/>
          <a:stretch/>
        </p:blipFill>
        <p:spPr>
          <a:xfrm>
            <a:off x="4356000" y="2765520"/>
            <a:ext cx="1944720" cy="46044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1" descr=""/>
          <p:cNvPicPr/>
          <p:nvPr/>
        </p:nvPicPr>
        <p:blipFill>
          <a:blip r:embed="rId7"/>
          <a:stretch/>
        </p:blipFill>
        <p:spPr>
          <a:xfrm>
            <a:off x="6372360" y="2708280"/>
            <a:ext cx="2771640" cy="46044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1" descr=""/>
          <p:cNvPicPr/>
          <p:nvPr/>
        </p:nvPicPr>
        <p:blipFill>
          <a:blip r:embed="rId8"/>
          <a:stretch/>
        </p:blipFill>
        <p:spPr>
          <a:xfrm>
            <a:off x="971640" y="3429000"/>
            <a:ext cx="3600360" cy="46044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1" descr=""/>
          <p:cNvPicPr/>
          <p:nvPr/>
        </p:nvPicPr>
        <p:blipFill>
          <a:blip r:embed="rId9"/>
          <a:stretch/>
        </p:blipFill>
        <p:spPr>
          <a:xfrm>
            <a:off x="755640" y="3933720"/>
            <a:ext cx="5040360" cy="46044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1" descr=""/>
          <p:cNvPicPr/>
          <p:nvPr/>
        </p:nvPicPr>
        <p:blipFill>
          <a:blip r:embed="rId10"/>
          <a:stretch/>
        </p:blipFill>
        <p:spPr>
          <a:xfrm>
            <a:off x="684360" y="4437000"/>
            <a:ext cx="5040000" cy="46044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1" descr=""/>
          <p:cNvPicPr/>
          <p:nvPr/>
        </p:nvPicPr>
        <p:blipFill>
          <a:blip r:embed="rId11"/>
          <a:stretch/>
        </p:blipFill>
        <p:spPr>
          <a:xfrm>
            <a:off x="826920" y="4970520"/>
            <a:ext cx="5040360" cy="460440"/>
          </a:xfrm>
          <a:prstGeom prst="rect">
            <a:avLst/>
          </a:prstGeom>
          <a:ln w="0">
            <a:noFill/>
          </a:ln>
        </p:spPr>
      </p:pic>
      <p:pic>
        <p:nvPicPr>
          <p:cNvPr id="1521" name="Picture 1" descr=""/>
          <p:cNvPicPr/>
          <p:nvPr/>
        </p:nvPicPr>
        <p:blipFill>
          <a:blip r:embed="rId12"/>
          <a:stretch/>
        </p:blipFill>
        <p:spPr>
          <a:xfrm>
            <a:off x="611280" y="5516640"/>
            <a:ext cx="5040360" cy="460440"/>
          </a:xfrm>
          <a:prstGeom prst="rect">
            <a:avLst/>
          </a:prstGeom>
          <a:ln w="0">
            <a:noFill/>
          </a:ln>
        </p:spPr>
      </p:pic>
      <p:pic>
        <p:nvPicPr>
          <p:cNvPr id="1522" name="Picture 1" descr=""/>
          <p:cNvPicPr/>
          <p:nvPr/>
        </p:nvPicPr>
        <p:blipFill>
          <a:blip r:embed="rId13"/>
          <a:stretch/>
        </p:blipFill>
        <p:spPr>
          <a:xfrm>
            <a:off x="971640" y="6021360"/>
            <a:ext cx="1944720" cy="46044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1" descr=""/>
          <p:cNvPicPr/>
          <p:nvPr/>
        </p:nvPicPr>
        <p:blipFill>
          <a:blip r:embed="rId14"/>
          <a:stretch/>
        </p:blipFill>
        <p:spPr>
          <a:xfrm>
            <a:off x="2916360" y="6021360"/>
            <a:ext cx="518472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4" name="图片 61441" descr=""/>
          <p:cNvPicPr/>
          <p:nvPr/>
        </p:nvPicPr>
        <p:blipFill>
          <a:blip r:embed="rId1"/>
          <a:stretch/>
        </p:blipFill>
        <p:spPr>
          <a:xfrm>
            <a:off x="228600" y="787320"/>
            <a:ext cx="8686800" cy="581040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1" descr=""/>
          <p:cNvPicPr/>
          <p:nvPr/>
        </p:nvPicPr>
        <p:blipFill>
          <a:blip r:embed="rId2"/>
          <a:stretch/>
        </p:blipFill>
        <p:spPr>
          <a:xfrm>
            <a:off x="5303880" y="3011400"/>
            <a:ext cx="780840" cy="46044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1" descr=""/>
          <p:cNvPicPr/>
          <p:nvPr/>
        </p:nvPicPr>
        <p:blipFill>
          <a:blip r:embed="rId3"/>
          <a:stretch/>
        </p:blipFill>
        <p:spPr>
          <a:xfrm>
            <a:off x="5292720" y="4048200"/>
            <a:ext cx="781200" cy="46044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1" descr=""/>
          <p:cNvPicPr/>
          <p:nvPr/>
        </p:nvPicPr>
        <p:blipFill>
          <a:blip r:embed="rId4"/>
          <a:stretch/>
        </p:blipFill>
        <p:spPr>
          <a:xfrm>
            <a:off x="7236000" y="5099040"/>
            <a:ext cx="1908000" cy="46044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" descr=""/>
          <p:cNvPicPr/>
          <p:nvPr/>
        </p:nvPicPr>
        <p:blipFill>
          <a:blip r:embed="rId5"/>
          <a:stretch/>
        </p:blipFill>
        <p:spPr>
          <a:xfrm>
            <a:off x="1042920" y="5661000"/>
            <a:ext cx="59770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3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9" name="图片 70657" descr=""/>
          <p:cNvPicPr/>
          <p:nvPr/>
        </p:nvPicPr>
        <p:blipFill>
          <a:blip r:embed="rId1"/>
          <a:stretch/>
        </p:blipFill>
        <p:spPr>
          <a:xfrm>
            <a:off x="480960" y="1123920"/>
            <a:ext cx="81820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60428" descr=""/>
          <p:cNvPicPr/>
          <p:nvPr/>
        </p:nvPicPr>
        <p:blipFill>
          <a:blip r:embed="rId1"/>
          <a:stretch/>
        </p:blipFill>
        <p:spPr>
          <a:xfrm>
            <a:off x="1614600" y="1395360"/>
            <a:ext cx="5914800" cy="406728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" descr=""/>
          <p:cNvPicPr/>
          <p:nvPr/>
        </p:nvPicPr>
        <p:blipFill>
          <a:blip r:embed="rId2"/>
          <a:stretch/>
        </p:blipFill>
        <p:spPr>
          <a:xfrm>
            <a:off x="4716360" y="3241800"/>
            <a:ext cx="1511280" cy="44748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1" descr=""/>
          <p:cNvPicPr/>
          <p:nvPr/>
        </p:nvPicPr>
        <p:blipFill>
          <a:blip r:embed="rId3"/>
          <a:stretch/>
        </p:blipFill>
        <p:spPr>
          <a:xfrm>
            <a:off x="4140360" y="380376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1" descr=""/>
          <p:cNvPicPr/>
          <p:nvPr/>
        </p:nvPicPr>
        <p:blipFill>
          <a:blip r:embed="rId4"/>
          <a:stretch/>
        </p:blipFill>
        <p:spPr>
          <a:xfrm>
            <a:off x="1979640" y="4394160"/>
            <a:ext cx="5472000" cy="447840"/>
          </a:xfrm>
          <a:prstGeom prst="rect">
            <a:avLst/>
          </a:prstGeom>
          <a:ln w="0">
            <a:noFill/>
          </a:ln>
        </p:spPr>
      </p:pic>
      <p:pic>
        <p:nvPicPr>
          <p:cNvPr id="1437" name="Picture 1" descr=""/>
          <p:cNvPicPr/>
          <p:nvPr/>
        </p:nvPicPr>
        <p:blipFill>
          <a:blip r:embed="rId5"/>
          <a:stretch/>
        </p:blipFill>
        <p:spPr>
          <a:xfrm>
            <a:off x="1735200" y="495612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0" name="图片 71681" descr=""/>
          <p:cNvPicPr/>
          <p:nvPr/>
        </p:nvPicPr>
        <p:blipFill>
          <a:blip r:embed="rId1"/>
          <a:stretch/>
        </p:blipFill>
        <p:spPr>
          <a:xfrm>
            <a:off x="500040" y="1085760"/>
            <a:ext cx="8143920" cy="4686480"/>
          </a:xfrm>
          <a:prstGeom prst="rect">
            <a:avLst/>
          </a:prstGeom>
          <a:ln w="0">
            <a:noFill/>
          </a:ln>
        </p:spPr>
      </p:pic>
      <p:pic>
        <p:nvPicPr>
          <p:cNvPr id="1531" name="Picture 1" descr=""/>
          <p:cNvPicPr/>
          <p:nvPr/>
        </p:nvPicPr>
        <p:blipFill>
          <a:blip r:embed="rId2"/>
          <a:stretch/>
        </p:blipFill>
        <p:spPr>
          <a:xfrm>
            <a:off x="395280" y="1154160"/>
            <a:ext cx="8280360" cy="460440"/>
          </a:xfrm>
          <a:prstGeom prst="rect">
            <a:avLst/>
          </a:prstGeom>
          <a:ln w="0">
            <a:noFill/>
          </a:ln>
        </p:spPr>
      </p:pic>
      <p:pic>
        <p:nvPicPr>
          <p:cNvPr id="1532" name="Picture 1" descr=""/>
          <p:cNvPicPr/>
          <p:nvPr/>
        </p:nvPicPr>
        <p:blipFill>
          <a:blip r:embed="rId3"/>
          <a:stretch/>
        </p:blipFill>
        <p:spPr>
          <a:xfrm>
            <a:off x="324000" y="1671480"/>
            <a:ext cx="8280360" cy="460440"/>
          </a:xfrm>
          <a:prstGeom prst="rect">
            <a:avLst/>
          </a:prstGeom>
          <a:ln w="0">
            <a:noFill/>
          </a:ln>
        </p:spPr>
      </p:pic>
      <p:pic>
        <p:nvPicPr>
          <p:cNvPr id="1533" name="Picture 1" descr=""/>
          <p:cNvPicPr/>
          <p:nvPr/>
        </p:nvPicPr>
        <p:blipFill>
          <a:blip r:embed="rId4"/>
          <a:stretch/>
        </p:blipFill>
        <p:spPr>
          <a:xfrm>
            <a:off x="324000" y="2147760"/>
            <a:ext cx="8280360" cy="46044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1" descr=""/>
          <p:cNvPicPr/>
          <p:nvPr/>
        </p:nvPicPr>
        <p:blipFill>
          <a:blip r:embed="rId5"/>
          <a:stretch/>
        </p:blipFill>
        <p:spPr>
          <a:xfrm>
            <a:off x="324000" y="2708280"/>
            <a:ext cx="8280360" cy="46044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1" descr=""/>
          <p:cNvPicPr/>
          <p:nvPr/>
        </p:nvPicPr>
        <p:blipFill>
          <a:blip r:embed="rId6"/>
          <a:stretch/>
        </p:blipFill>
        <p:spPr>
          <a:xfrm>
            <a:off x="250920" y="3284640"/>
            <a:ext cx="8280360" cy="46044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1" descr=""/>
          <p:cNvPicPr/>
          <p:nvPr/>
        </p:nvPicPr>
        <p:blipFill>
          <a:blip r:embed="rId7"/>
          <a:stretch/>
        </p:blipFill>
        <p:spPr>
          <a:xfrm>
            <a:off x="324000" y="3789360"/>
            <a:ext cx="8280360" cy="46044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1" descr=""/>
          <p:cNvPicPr/>
          <p:nvPr/>
        </p:nvPicPr>
        <p:blipFill>
          <a:blip r:embed="rId8"/>
          <a:stretch/>
        </p:blipFill>
        <p:spPr>
          <a:xfrm>
            <a:off x="395280" y="4221000"/>
            <a:ext cx="8280360" cy="460440"/>
          </a:xfrm>
          <a:prstGeom prst="rect">
            <a:avLst/>
          </a:prstGeom>
          <a:ln w="0">
            <a:noFill/>
          </a:ln>
        </p:spPr>
      </p:pic>
      <p:pic>
        <p:nvPicPr>
          <p:cNvPr id="1538" name="Picture 1" descr=""/>
          <p:cNvPicPr/>
          <p:nvPr/>
        </p:nvPicPr>
        <p:blipFill>
          <a:blip r:embed="rId9"/>
          <a:stretch/>
        </p:blipFill>
        <p:spPr>
          <a:xfrm>
            <a:off x="324000" y="4797360"/>
            <a:ext cx="8280360" cy="460440"/>
          </a:xfrm>
          <a:prstGeom prst="rect">
            <a:avLst/>
          </a:prstGeom>
          <a:ln w="0">
            <a:noFill/>
          </a:ln>
        </p:spPr>
      </p:pic>
      <p:pic>
        <p:nvPicPr>
          <p:cNvPr id="1539" name="Picture 1" descr=""/>
          <p:cNvPicPr/>
          <p:nvPr/>
        </p:nvPicPr>
        <p:blipFill>
          <a:blip r:embed="rId10"/>
          <a:stretch/>
        </p:blipFill>
        <p:spPr>
          <a:xfrm>
            <a:off x="324000" y="5359320"/>
            <a:ext cx="828036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3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图片 72705" descr=""/>
          <p:cNvPicPr/>
          <p:nvPr/>
        </p:nvPicPr>
        <p:blipFill>
          <a:blip r:embed="rId1"/>
          <a:stretch/>
        </p:blipFill>
        <p:spPr>
          <a:xfrm>
            <a:off x="519120" y="1581120"/>
            <a:ext cx="8105760" cy="3695760"/>
          </a:xfrm>
          <a:prstGeom prst="rect">
            <a:avLst/>
          </a:prstGeom>
          <a:ln w="0">
            <a:noFill/>
          </a:ln>
        </p:spPr>
      </p:pic>
      <p:pic>
        <p:nvPicPr>
          <p:cNvPr id="1541" name="Picture 1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5040360" cy="46044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1" descr=""/>
          <p:cNvPicPr/>
          <p:nvPr/>
        </p:nvPicPr>
        <p:blipFill>
          <a:blip r:embed="rId3"/>
          <a:stretch/>
        </p:blipFill>
        <p:spPr>
          <a:xfrm>
            <a:off x="539640" y="2060640"/>
            <a:ext cx="6048360" cy="460440"/>
          </a:xfrm>
          <a:prstGeom prst="rect">
            <a:avLst/>
          </a:prstGeom>
          <a:ln w="0">
            <a:noFill/>
          </a:ln>
        </p:spPr>
      </p:pic>
      <p:pic>
        <p:nvPicPr>
          <p:cNvPr id="1543" name="Picture 1" descr=""/>
          <p:cNvPicPr/>
          <p:nvPr/>
        </p:nvPicPr>
        <p:blipFill>
          <a:blip r:embed="rId4"/>
          <a:stretch/>
        </p:blipFill>
        <p:spPr>
          <a:xfrm>
            <a:off x="468360" y="2637000"/>
            <a:ext cx="8280360" cy="460080"/>
          </a:xfrm>
          <a:prstGeom prst="rect">
            <a:avLst/>
          </a:prstGeom>
          <a:ln w="0">
            <a:noFill/>
          </a:ln>
        </p:spPr>
      </p:pic>
      <p:pic>
        <p:nvPicPr>
          <p:cNvPr id="1544" name="Picture 1" descr=""/>
          <p:cNvPicPr/>
          <p:nvPr/>
        </p:nvPicPr>
        <p:blipFill>
          <a:blip r:embed="rId5"/>
          <a:stretch/>
        </p:blipFill>
        <p:spPr>
          <a:xfrm>
            <a:off x="468360" y="3141720"/>
            <a:ext cx="8280360" cy="460440"/>
          </a:xfrm>
          <a:prstGeom prst="rect">
            <a:avLst/>
          </a:prstGeom>
          <a:ln w="0">
            <a:noFill/>
          </a:ln>
        </p:spPr>
      </p:pic>
      <p:pic>
        <p:nvPicPr>
          <p:cNvPr id="1545" name="Picture 1" descr=""/>
          <p:cNvPicPr/>
          <p:nvPr/>
        </p:nvPicPr>
        <p:blipFill>
          <a:blip r:embed="rId6"/>
          <a:stretch/>
        </p:blipFill>
        <p:spPr>
          <a:xfrm>
            <a:off x="468360" y="3645000"/>
            <a:ext cx="8280360" cy="460440"/>
          </a:xfrm>
          <a:prstGeom prst="rect">
            <a:avLst/>
          </a:prstGeom>
          <a:ln w="0">
            <a:noFill/>
          </a:ln>
        </p:spPr>
      </p:pic>
      <p:pic>
        <p:nvPicPr>
          <p:cNvPr id="1546" name="Picture 1" descr=""/>
          <p:cNvPicPr/>
          <p:nvPr/>
        </p:nvPicPr>
        <p:blipFill>
          <a:blip r:embed="rId7"/>
          <a:stretch/>
        </p:blipFill>
        <p:spPr>
          <a:xfrm>
            <a:off x="395280" y="4149720"/>
            <a:ext cx="8280360" cy="460440"/>
          </a:xfrm>
          <a:prstGeom prst="rect">
            <a:avLst/>
          </a:prstGeom>
          <a:ln w="0">
            <a:noFill/>
          </a:ln>
        </p:spPr>
      </p:pic>
      <p:pic>
        <p:nvPicPr>
          <p:cNvPr id="1547" name="Picture 1" descr=""/>
          <p:cNvPicPr/>
          <p:nvPr/>
        </p:nvPicPr>
        <p:blipFill>
          <a:blip r:embed="rId8"/>
          <a:stretch/>
        </p:blipFill>
        <p:spPr>
          <a:xfrm>
            <a:off x="324000" y="4724280"/>
            <a:ext cx="828036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5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5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0" dur="1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5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0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59410" descr=""/>
          <p:cNvPicPr/>
          <p:nvPr/>
        </p:nvPicPr>
        <p:blipFill>
          <a:blip r:embed="rId1"/>
          <a:stretch/>
        </p:blipFill>
        <p:spPr>
          <a:xfrm>
            <a:off x="1585800" y="1990800"/>
            <a:ext cx="5972400" cy="2876400"/>
          </a:xfrm>
          <a:prstGeom prst="rect">
            <a:avLst/>
          </a:prstGeom>
          <a:ln w="0">
            <a:noFill/>
          </a:ln>
        </p:spPr>
      </p:pic>
      <p:pic>
        <p:nvPicPr>
          <p:cNvPr id="1439" name="Picture 1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440" name="Picture 1" descr=""/>
          <p:cNvPicPr/>
          <p:nvPr/>
        </p:nvPicPr>
        <p:blipFill>
          <a:blip r:embed="rId3"/>
          <a:stretch/>
        </p:blipFill>
        <p:spPr>
          <a:xfrm>
            <a:off x="3780000" y="2579760"/>
            <a:ext cx="2087280" cy="44748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1" descr=""/>
          <p:cNvPicPr/>
          <p:nvPr/>
        </p:nvPicPr>
        <p:blipFill>
          <a:blip r:embed="rId4"/>
          <a:stretch/>
        </p:blipFill>
        <p:spPr>
          <a:xfrm>
            <a:off x="6948360" y="3141720"/>
            <a:ext cx="1008360" cy="44748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1" descr=""/>
          <p:cNvPicPr/>
          <p:nvPr/>
        </p:nvPicPr>
        <p:blipFill>
          <a:blip r:embed="rId5"/>
          <a:stretch/>
        </p:blipFill>
        <p:spPr>
          <a:xfrm>
            <a:off x="1676520" y="371628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443" name="Picture 1" descr=""/>
          <p:cNvPicPr/>
          <p:nvPr/>
        </p:nvPicPr>
        <p:blipFill>
          <a:blip r:embed="rId6"/>
          <a:stretch/>
        </p:blipFill>
        <p:spPr>
          <a:xfrm>
            <a:off x="4859280" y="371628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444" name="Picture 1" descr=""/>
          <p:cNvPicPr/>
          <p:nvPr/>
        </p:nvPicPr>
        <p:blipFill>
          <a:blip r:embed="rId7"/>
          <a:stretch/>
        </p:blipFill>
        <p:spPr>
          <a:xfrm>
            <a:off x="5148360" y="4292640"/>
            <a:ext cx="1728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58373" descr=""/>
          <p:cNvPicPr/>
          <p:nvPr/>
        </p:nvPicPr>
        <p:blipFill>
          <a:blip r:embed="rId1"/>
          <a:stretch/>
        </p:blipFill>
        <p:spPr>
          <a:xfrm>
            <a:off x="1590840" y="961920"/>
            <a:ext cx="59623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57352" descr=""/>
          <p:cNvPicPr/>
          <p:nvPr/>
        </p:nvPicPr>
        <p:blipFill>
          <a:blip r:embed="rId1"/>
          <a:stretch/>
        </p:blipFill>
        <p:spPr>
          <a:xfrm>
            <a:off x="1666800" y="627120"/>
            <a:ext cx="5857920" cy="611496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1" descr=""/>
          <p:cNvPicPr/>
          <p:nvPr/>
        </p:nvPicPr>
        <p:blipFill>
          <a:blip r:embed="rId2"/>
          <a:stretch/>
        </p:blipFill>
        <p:spPr>
          <a:xfrm>
            <a:off x="3693960" y="2895480"/>
            <a:ext cx="3973680" cy="447840"/>
          </a:xfrm>
          <a:prstGeom prst="rect">
            <a:avLst/>
          </a:prstGeom>
          <a:ln w="0">
            <a:noFill/>
          </a:ln>
        </p:spPr>
      </p:pic>
      <p:pic>
        <p:nvPicPr>
          <p:cNvPr id="1448" name="Picture 1" descr=""/>
          <p:cNvPicPr/>
          <p:nvPr/>
        </p:nvPicPr>
        <p:blipFill>
          <a:blip r:embed="rId3"/>
          <a:stretch/>
        </p:blipFill>
        <p:spPr>
          <a:xfrm>
            <a:off x="1258920" y="3500280"/>
            <a:ext cx="2808360" cy="447840"/>
          </a:xfrm>
          <a:prstGeom prst="rect">
            <a:avLst/>
          </a:prstGeom>
          <a:ln w="0">
            <a:noFill/>
          </a:ln>
        </p:spPr>
      </p:pic>
      <p:pic>
        <p:nvPicPr>
          <p:cNvPr id="1449" name="Picture 1" descr=""/>
          <p:cNvPicPr/>
          <p:nvPr/>
        </p:nvPicPr>
        <p:blipFill>
          <a:blip r:embed="rId4"/>
          <a:stretch/>
        </p:blipFill>
        <p:spPr>
          <a:xfrm>
            <a:off x="4111560" y="3457440"/>
            <a:ext cx="2981520" cy="44784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1" descr=""/>
          <p:cNvPicPr/>
          <p:nvPr/>
        </p:nvPicPr>
        <p:blipFill>
          <a:blip r:embed="rId5"/>
          <a:stretch/>
        </p:blipFill>
        <p:spPr>
          <a:xfrm>
            <a:off x="7164360" y="34862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1" descr=""/>
          <p:cNvPicPr/>
          <p:nvPr/>
        </p:nvPicPr>
        <p:blipFill>
          <a:blip r:embed="rId6"/>
          <a:stretch/>
        </p:blipFill>
        <p:spPr>
          <a:xfrm>
            <a:off x="1403280" y="4048200"/>
            <a:ext cx="3456000" cy="44748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1" descr=""/>
          <p:cNvPicPr/>
          <p:nvPr/>
        </p:nvPicPr>
        <p:blipFill>
          <a:blip r:embed="rId7"/>
          <a:stretch/>
        </p:blipFill>
        <p:spPr>
          <a:xfrm>
            <a:off x="4859280" y="4048200"/>
            <a:ext cx="273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56324" descr=""/>
          <p:cNvPicPr/>
          <p:nvPr/>
        </p:nvPicPr>
        <p:blipFill>
          <a:blip r:embed="rId1"/>
          <a:stretch/>
        </p:blipFill>
        <p:spPr>
          <a:xfrm>
            <a:off x="1638360" y="1681200"/>
            <a:ext cx="5867280" cy="349560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1" descr=""/>
          <p:cNvPicPr/>
          <p:nvPr/>
        </p:nvPicPr>
        <p:blipFill>
          <a:blip r:embed="rId2"/>
          <a:stretch/>
        </p:blipFill>
        <p:spPr>
          <a:xfrm>
            <a:off x="3578400" y="4595760"/>
            <a:ext cx="17143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55300" descr=""/>
          <p:cNvPicPr/>
          <p:nvPr/>
        </p:nvPicPr>
        <p:blipFill>
          <a:blip r:embed="rId1"/>
          <a:stretch/>
        </p:blipFill>
        <p:spPr>
          <a:xfrm>
            <a:off x="262080" y="1843200"/>
            <a:ext cx="8619840" cy="317160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1" descr=""/>
          <p:cNvPicPr/>
          <p:nvPr/>
        </p:nvPicPr>
        <p:blipFill>
          <a:blip r:embed="rId2"/>
          <a:stretch/>
        </p:blipFill>
        <p:spPr>
          <a:xfrm>
            <a:off x="8186760" y="377496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54276" descr=""/>
          <p:cNvPicPr/>
          <p:nvPr/>
        </p:nvPicPr>
        <p:blipFill>
          <a:blip r:embed="rId1"/>
          <a:stretch/>
        </p:blipFill>
        <p:spPr>
          <a:xfrm>
            <a:off x="204840" y="1204920"/>
            <a:ext cx="8734320" cy="444816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" descr=""/>
          <p:cNvPicPr/>
          <p:nvPr/>
        </p:nvPicPr>
        <p:blipFill>
          <a:blip r:embed="rId2"/>
          <a:stretch/>
        </p:blipFill>
        <p:spPr>
          <a:xfrm>
            <a:off x="8244000" y="1197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1" descr=""/>
          <p:cNvPicPr/>
          <p:nvPr/>
        </p:nvPicPr>
        <p:blipFill>
          <a:blip r:embed="rId3"/>
          <a:stretch/>
        </p:blipFill>
        <p:spPr>
          <a:xfrm>
            <a:off x="6516720" y="4335480"/>
            <a:ext cx="719280" cy="38412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1" descr=""/>
          <p:cNvPicPr/>
          <p:nvPr/>
        </p:nvPicPr>
        <p:blipFill>
          <a:blip r:embed="rId4"/>
          <a:stretch/>
        </p:blipFill>
        <p:spPr>
          <a:xfrm>
            <a:off x="928800" y="5214960"/>
            <a:ext cx="71892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52231" descr=""/>
          <p:cNvPicPr/>
          <p:nvPr/>
        </p:nvPicPr>
        <p:blipFill>
          <a:blip r:embed="rId1"/>
          <a:stretch/>
        </p:blipFill>
        <p:spPr>
          <a:xfrm>
            <a:off x="163440" y="2276640"/>
            <a:ext cx="8801280" cy="237168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1" descr=""/>
          <p:cNvPicPr/>
          <p:nvPr/>
        </p:nvPicPr>
        <p:blipFill>
          <a:blip r:embed="rId2"/>
          <a:stretch/>
        </p:blipFill>
        <p:spPr>
          <a:xfrm>
            <a:off x="309600" y="3054240"/>
            <a:ext cx="2376360" cy="38412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1" descr=""/>
          <p:cNvPicPr/>
          <p:nvPr/>
        </p:nvPicPr>
        <p:blipFill>
          <a:blip r:embed="rId3"/>
          <a:stretch/>
        </p:blipFill>
        <p:spPr>
          <a:xfrm>
            <a:off x="2685960" y="3068640"/>
            <a:ext cx="2376720" cy="38412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1" descr=""/>
          <p:cNvPicPr/>
          <p:nvPr/>
        </p:nvPicPr>
        <p:blipFill>
          <a:blip r:embed="rId4"/>
          <a:stretch/>
        </p:blipFill>
        <p:spPr>
          <a:xfrm>
            <a:off x="136440" y="3500280"/>
            <a:ext cx="2016360" cy="38448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1" descr=""/>
          <p:cNvPicPr/>
          <p:nvPr/>
        </p:nvPicPr>
        <p:blipFill>
          <a:blip r:embed="rId5"/>
          <a:stretch/>
        </p:blipFill>
        <p:spPr>
          <a:xfrm>
            <a:off x="2181240" y="3500280"/>
            <a:ext cx="2535120" cy="38448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1" descr=""/>
          <p:cNvPicPr/>
          <p:nvPr/>
        </p:nvPicPr>
        <p:blipFill>
          <a:blip r:embed="rId6"/>
          <a:stretch/>
        </p:blipFill>
        <p:spPr>
          <a:xfrm>
            <a:off x="4716360" y="3500280"/>
            <a:ext cx="2808360" cy="38448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1" descr=""/>
          <p:cNvPicPr/>
          <p:nvPr/>
        </p:nvPicPr>
        <p:blipFill>
          <a:blip r:embed="rId7"/>
          <a:stretch/>
        </p:blipFill>
        <p:spPr>
          <a:xfrm>
            <a:off x="395280" y="3933720"/>
            <a:ext cx="475308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19:2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